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5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B130-8A8E-40B8-A085-28BD925C8D5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Definição correcta mas falta agora converter para parâmetros fís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As duas pessoas estão confortáveis, no entanto estão em condições totalmente difer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met medida de metabolismo que mede o grau de activid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Existem outros factores e O conforto reflecte-se na eficiência do traba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Falar um pouco de cada termo: Evaporação é a Difusão+Transpiração, Respiração (l.,S.), Rad. e Conv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O Sector Doméstico e de Serviços é o sector dos Edifí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D4A-2DE3-4C86-925D-5D4A362D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2F3-C301-416B-895A-EF5E2687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464-9562-465A-8AF8-C1EDE205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2B3-01A3-4AF1-B4C2-D2832763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F5A0-12B2-410F-AC1F-9C6F8BA8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9AF5-059A-4F1B-9F7D-CF458329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40D0-054F-450D-A157-FBDB52D7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DC4A-62DD-4828-A231-1B6FBD05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0121-7496-4F55-A47E-C4A5AEC9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715A-F105-4566-A152-5A98C9CB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C358-392E-4C4D-869D-32579E82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D20-EC6B-4EEB-BE5C-445328C0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BD93-676C-4500-A617-43D32820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B4E9-650C-46CF-B963-CC8B6DF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CAAC-80F3-418C-8C2D-908C8F1A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4513-E56E-4421-BFA4-BC2C700A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2B97-4B4C-45AD-B5F3-539D1D5A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6F6-811D-444F-826E-2E6BED08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520-E371-4401-A32D-13A2A497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9E1-E635-42A8-B188-871F8F2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C6F-4F75-479F-9C73-7C618002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31B-E7E8-4633-85AC-E87100C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A47-9CB1-4663-A226-BEE995DB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89F-D43D-4240-95BC-C576409D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3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DB23-8BDB-43CE-8399-C6D5AD7F782C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3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181080"/>
            <a:ext cx="624816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894D-BDC9-455C-9246-B923D41F321D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" Target="slide30.xml"/><Relationship Id="rId4" Type="http://schemas.openxmlformats.org/officeDocument/2006/relationships/image" Target="../media/image26.png"/><Relationship Id="rId5" Type="http://schemas.openxmlformats.org/officeDocument/2006/relationships/slide" Target="slide31.xml"/><Relationship Id="rId6" Type="http://schemas.openxmlformats.org/officeDocument/2006/relationships/image" Target="../media/image27.png"/><Relationship Id="rId7" Type="http://schemas.openxmlformats.org/officeDocument/2006/relationships/slide" Target="slide32.xml"/><Relationship Id="rId8" Type="http://schemas.openxmlformats.org/officeDocument/2006/relationships/image" Target="../media/image28.png"/><Relationship Id="rId9" Type="http://schemas.openxmlformats.org/officeDocument/2006/relationships/slide" Target="slide33.xml"/><Relationship Id="rId10" Type="http://schemas.openxmlformats.org/officeDocument/2006/relationships/image" Target="../media/image29.png"/><Relationship Id="rId11" Type="http://schemas.openxmlformats.org/officeDocument/2006/relationships/slide" Target="slide34.xml"/><Relationship Id="rId12" Type="http://schemas.openxmlformats.org/officeDocument/2006/relationships/image" Target="../media/image30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Os meus documentos\Mestrado\Metodos experimentais de energia e ambiente\software termico\AN15.EXE" TargetMode="External"/><Relationship Id="rId3" Type="http://schemas.openxmlformats.org/officeDocument/2006/relationships/image" Target="../media/image37.png"/><Relationship Id="rId4" Type="http://schemas.openxmlformats.org/officeDocument/2006/relationships/hyperlink" Target="C:\Os meus documentos\Mestrado\Metodos experimentais de energia e ambiente\software termico\PMVTOOL.exe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SERVICE\VAILLANT.EXE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CTCA\ctca.exe" TargetMode="External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Program Files\GDT\VisualDOE\VisDOE30.exe" TargetMode="External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3300"/>
                </a:solidFill>
                <a:latin typeface="Arial Black"/>
              </a:rPr>
              <a:t>Conforto Térmic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88620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uís Sil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onne Tole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edro Gross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9900"/>
                </a:solidFill>
                <a:latin typeface="Arial"/>
              </a:rPr>
              <a:t>Métodos Experimentais em Energia e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4762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8692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9900"/>
                </a:solidFill>
                <a:latin typeface="Arial Black"/>
              </a:rPr>
              <a:t>Normas e Regulamento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pt-PT" sz="2000" spc="-1" strike="noStrike">
                <a:solidFill>
                  <a:srgbClr val="663300"/>
                </a:solidFill>
                <a:latin typeface="Arial"/>
              </a:rPr>
              <a:t>Para este efeito existem diversas normas e regulamentos que especificam as condições necessárias para se estar confortáv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SO-7730, estabelece um critério objectivo de avaliação de conforto térm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SO-7243, define nível de desconforto do ambiente (aplica-se quando não é possível aplicar a ISO-77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SO-7726, define as grandezas e os instrumentos a utilizar nas med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CCTE, Regulamento das Características de Comportamento Térmico dos Edifí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CESE, Regulamento dos Sistemas Energéticos de Climatização em Edifí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8370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9900"/>
                </a:solidFill>
                <a:latin typeface="Arial Black"/>
              </a:rPr>
              <a:t>O que é Conforto Térmico 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4800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pt-PT" sz="2800" spc="-1" strike="noStrike">
                <a:solidFill>
                  <a:srgbClr val="663300"/>
                </a:solidFill>
                <a:latin typeface="Arial"/>
              </a:rPr>
              <a:t>É o estado de alma que expressa satisfação com ambiente tér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981080"/>
            <a:ext cx="72392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pt-PT" sz="2400" spc="-1" strike="noStrike">
                <a:solidFill>
                  <a:srgbClr val="663300"/>
                </a:solidFill>
                <a:latin typeface="Arial"/>
              </a:rPr>
              <a:t>Conforto térmico é definido pela norma ISO-7730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pt-PT" sz="2400" spc="-1" strike="noStrike">
                <a:solidFill>
                  <a:srgbClr val="663300"/>
                </a:solidFill>
                <a:latin typeface="Arial"/>
              </a:rPr>
              <a:t>"That condition of mind which expresses satisfaction with the thermal environment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2080"/>
            <a:ext cx="746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9900"/>
                </a:solidFill>
                <a:latin typeface="Arial Black"/>
              </a:rPr>
              <a:t>A Complexidade do Conforto Térmico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conforto térmico depende de muito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33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3300"/>
                </a:solidFill>
                <a:latin typeface="Arial"/>
              </a:rPr>
              <a:t>P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3300"/>
                </a:solidFill>
                <a:latin typeface="Arial"/>
              </a:rPr>
              <a:t>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3300"/>
                </a:solidFill>
                <a:latin typeface="Arial"/>
              </a:rPr>
              <a:t>Hum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3300"/>
                </a:solidFill>
                <a:latin typeface="Arial"/>
              </a:rPr>
              <a:t>Ac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3300"/>
                </a:solidFill>
                <a:latin typeface="Arial"/>
              </a:rPr>
              <a:t>Vestu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4762800" cy="1542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352680" y="4038480"/>
            <a:ext cx="1676520" cy="2286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26668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79440"/>
            <a:ext cx="746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9900"/>
                </a:solidFill>
                <a:latin typeface="Arial Black"/>
              </a:rPr>
              <a:t>Conforto Térmico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ra se garantir conforto térmico é preciso haver equilíbrio entre o calor produzido pelo corpo e o calor perdido pelo co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86200" y="3524400"/>
            <a:ext cx="3619440" cy="2114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280" y="3505320"/>
            <a:ext cx="3505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Outros factores associados ao conforto s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9900"/>
                </a:solidFill>
                <a:latin typeface="Times New Roman"/>
              </a:rPr>
              <a:t>Luminos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9900"/>
                </a:solidFill>
                <a:latin typeface="Times New Roman"/>
              </a:rPr>
              <a:t>Ruí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9900"/>
                </a:solidFill>
                <a:latin typeface="Times New Roman"/>
              </a:rPr>
              <a:t>Qualidade do 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9900"/>
                </a:solidFill>
                <a:latin typeface="Arial Black"/>
              </a:rPr>
              <a:t>ISO 7730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3300"/>
                </a:solidFill>
                <a:latin typeface="Arial"/>
              </a:rPr>
              <a:t>Obje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Determinação dos índi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MV – Predicted Mean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PD – Predicted Percentage of Dissatis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Especificação das condições de conforto térm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05280" y="2282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3300"/>
                </a:solidFill>
                <a:latin typeface="Arial"/>
              </a:rPr>
              <a:t>ISO 77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</a:rPr>
              <a:t>Um espaço apresenta condições de conforto quando não mais do que 10% dos seus ocupantes se sintam desconfort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00400"/>
            <a:ext cx="8001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95280" indent="-380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Metodologia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Quantificação de parâmetros individuais e ambienta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eterminação da acumulação energética do corpo - </a:t>
            </a:r>
            <a:r>
              <a:rPr b="0" i="1" lang="pt-PT" sz="2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eterminação do PMV – </a:t>
            </a:r>
            <a:r>
              <a:rPr b="0" i="1" lang="pt-PT" sz="2200" spc="-1" strike="noStrike">
                <a:solidFill>
                  <a:srgbClr val="000000"/>
                </a:solidFill>
                <a:latin typeface="Arial"/>
              </a:rPr>
              <a:t>escala calor / f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eterminação do PPD – </a:t>
            </a:r>
            <a:r>
              <a:rPr b="0" i="1" lang="pt-PT" sz="2200" spc="-1" strike="noStrike">
                <a:solidFill>
                  <a:srgbClr val="000000"/>
                </a:solidFill>
                <a:latin typeface="Arial"/>
              </a:rPr>
              <a:t>insatisfação</a:t>
            </a: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3300"/>
                </a:solidFill>
                <a:latin typeface="Arial"/>
              </a:rPr>
              <a:t>Equação do Conforto Tér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990720"/>
            <a:ext cx="563868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S =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M-W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3.05e-3*(5733-6.99(M-W)-p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vap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0.42*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M-W)-58.15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1.7e-5*M(5867- p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vap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0.0014*M(34- 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3.96e-8* f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vest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vest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+273)</a:t>
            </a:r>
            <a:r>
              <a:rPr b="0" lang="pt-PT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(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rad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+273)</a:t>
            </a:r>
            <a:r>
              <a:rPr b="0" lang="pt-PT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vest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*h*(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vest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990720"/>
            <a:ext cx="259092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Acumulação de Calor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Metabolismo e trabalho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Difusão de vapor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Transpiração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espiração latente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espiração sensível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Radiação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Convecção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45080" y="2276640"/>
            <a:ext cx="5398920" cy="4505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3300"/>
                </a:solidFill>
                <a:latin typeface="Arial"/>
              </a:rPr>
              <a:t>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axa de utilização de energia pelo co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2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basal – corpo em repouso absol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2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ctividade – esforço físico desenvolvido pelo corp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280" y="2133720"/>
          <a:ext cx="3429000" cy="40147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i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pesso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ado a descans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pesso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e Sedentá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pesso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é, actividade l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pesso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é, actividade mé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pesso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 activida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pesso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7696080" y="4540320"/>
            <a:ext cx="360360" cy="179280"/>
          </a:xfrm>
          <a:custGeom>
            <a:avLst/>
            <a:gdLst>
              <a:gd name="textAreaLeft" fmla="*/ 56160 w 360360"/>
              <a:gd name="textAreaRight" fmla="*/ 315360 w 360360"/>
              <a:gd name="textAreaTop" fmla="*/ 44640 h 179280"/>
              <a:gd name="textAreaBottom" fmla="*/ 134640 h 17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6308640" y="5673600"/>
            <a:ext cx="360360" cy="179280"/>
          </a:xfrm>
          <a:custGeom>
            <a:avLst/>
            <a:gdLst>
              <a:gd name="textAreaLeft" fmla="*/ 56160 w 360360"/>
              <a:gd name="textAreaRight" fmla="*/ 315360 w 360360"/>
              <a:gd name="textAreaTop" fmla="*/ 44640 h 179280"/>
              <a:gd name="textAreaBottom" fmla="*/ 134640 h 17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37160" y="4572000"/>
            <a:ext cx="115920" cy="115920"/>
          </a:xfrm>
          <a:prstGeom prst="flowChar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2400480"/>
            <a:ext cx="568440" cy="266400"/>
          </a:xfrm>
          <a:prstGeom prst="rightArrow">
            <a:avLst>
              <a:gd name="adj1" fmla="val 50000"/>
              <a:gd name="adj2" fmla="val 5334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1.87m</a:t>
            </a:r>
            <a:r>
              <a:rPr b="0" lang="pt-P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6172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Univers"/>
              </a:rPr>
              <a:t>89,1 W/m</a:t>
            </a:r>
            <a:r>
              <a:rPr b="1" lang="pt-PT" sz="3200" spc="-1" strike="noStrike" baseline="30000">
                <a:solidFill>
                  <a:srgbClr val="000000"/>
                </a:solidFill>
                <a:latin typeface="Univer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abalho – Variação de Energia de Cinética e Potencial, sendo usualment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Arial"/>
              </a:rPr>
              <a:t>ar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– Temperatura seca do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Arial"/>
              </a:rPr>
              <a:t>vap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– pressão parcial do vapor, função da humidade relativa e da pressão de s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Arial"/>
              </a:rPr>
              <a:t>rad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– Temperatura média radiante, termo extremamente difícil de definir com exactid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3300"/>
                </a:solidFill>
                <a:latin typeface="Times New Roman"/>
              </a:rPr>
              <a:t>Termos da Equação de Conf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 u="sng">
                <a:solidFill>
                  <a:srgbClr val="663300"/>
                </a:solidFill>
                <a:uFillTx/>
                <a:latin typeface="Arial"/>
              </a:rPr>
              <a:t>Determinação dos índices para o vestuá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lo é a unidade de resistência térmica do vestuário, 1clo=0.155m</a:t>
            </a:r>
            <a:r>
              <a:rPr b="0" lang="pt-PT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K/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14400" y="1523880"/>
          <a:ext cx="5257800" cy="3162600"/>
        </p:xfrm>
        <a:graphic>
          <a:graphicData uri="http://schemas.openxmlformats.org/drawingml/2006/table">
            <a:tbl>
              <a:tblPr/>
              <a:tblGrid>
                <a:gridCol w="2496960"/>
                <a:gridCol w="2760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tu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ência térm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(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ç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(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(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 de Ver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(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bal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 (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no, 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(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o compl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(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5143320" cy="1771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1819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24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Política Energética Naciona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pt-PT" sz="2000" spc="-1" strike="noStrike">
                <a:solidFill>
                  <a:srgbClr val="663300"/>
                </a:solidFill>
                <a:latin typeface="Arial"/>
              </a:rPr>
              <a:t>Nos últimos anos verificou-se um crescimento dos consumos de energia no Sector dos Transportes e no Sector Doméstico e de Servi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650" t="5122" r="3248" b="4098"/>
          <a:stretch/>
        </p:blipFill>
        <p:spPr>
          <a:xfrm>
            <a:off x="685800" y="2362320"/>
            <a:ext cx="71899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52480" y="1676520"/>
            <a:ext cx="6919920" cy="51004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 u="sng">
                <a:solidFill>
                  <a:srgbClr val="663300"/>
                </a:solidFill>
                <a:uFillTx/>
                <a:latin typeface="Arial"/>
              </a:rPr>
              <a:t>Determinação do factor de vestuá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057400"/>
            <a:ext cx="568440" cy="266760"/>
          </a:xfrm>
          <a:prstGeom prst="rightArrow">
            <a:avLst>
              <a:gd name="adj1" fmla="val 50000"/>
              <a:gd name="adj2" fmla="val 5327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1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5140080" y="5576760"/>
            <a:ext cx="360360" cy="179280"/>
          </a:xfrm>
          <a:custGeom>
            <a:avLst/>
            <a:gdLst>
              <a:gd name="textAreaLeft" fmla="*/ 56160 w 360360"/>
              <a:gd name="textAreaRight" fmla="*/ 315360 w 360360"/>
              <a:gd name="textAreaTop" fmla="*/ 44640 h 179280"/>
              <a:gd name="textAreaBottom" fmla="*/ 134640 h 17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3352680"/>
            <a:ext cx="115920" cy="115920"/>
          </a:xfrm>
          <a:prstGeom prst="flowChar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95840"/>
            <a:ext cx="3657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663300"/>
                </a:solidFill>
                <a:latin typeface="Arial Black"/>
              </a:rPr>
              <a:t>Coeficiente de Convecção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159080" y="3505320"/>
            <a:ext cx="4984920" cy="3338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148280" y="114480"/>
            <a:ext cx="4995720" cy="32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onvecção forçada h  =12.1</a:t>
            </a:r>
            <a:r>
              <a:rPr b="0" lang="pt-PT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523880"/>
            <a:ext cx="31244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onvecção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h=2.38*(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vest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 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PT" sz="2400" spc="-1" strike="noStrike" baseline="30000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3300"/>
                </a:solidFill>
                <a:latin typeface="Arial Black"/>
              </a:rPr>
              <a:t>Temperatura do Vestuário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523880"/>
            <a:ext cx="701064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vest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pele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vest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*(E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rad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+ E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conv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temperatura da pele está relacionada com o metabolismo e o trabalho - 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pele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= 35.7 – 0.0275(M-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343400"/>
            <a:ext cx="6858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vest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é obtida por balanço energético igualando a transferência por condução da pele para o vestuário à transferência de calor por convecção e radi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663300"/>
                </a:solidFill>
                <a:latin typeface="Arial Black"/>
              </a:rPr>
              <a:t>Aplicação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28124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vest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= 27.25ºC     ,     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pele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= 33.25ºC     ,     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= 20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h = 3.9 W/m</a:t>
            </a:r>
            <a:r>
              <a:rPr b="0" lang="pt-P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K     ,     T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Times New Roman"/>
              </a:rPr>
              <a:t>rad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= 26ºC     ,     HR=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320" y="2438280"/>
          <a:ext cx="7696080" cy="1295640"/>
        </p:xfrm>
        <a:graphic>
          <a:graphicData uri="http://schemas.openxmlformats.org/drawingml/2006/table">
            <a:tbl>
              <a:tblPr/>
              <a:tblGrid>
                <a:gridCol w="855720"/>
                <a:gridCol w="853920"/>
                <a:gridCol w="855720"/>
                <a:gridCol w="855720"/>
                <a:gridCol w="853920"/>
                <a:gridCol w="855720"/>
                <a:gridCol w="855720"/>
                <a:gridCol w="853920"/>
                <a:gridCol w="85572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l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4527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95480" y="3930480"/>
                <a:ext cx="4699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6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8</m:t>
                        </m:r>
                      </m:e>
                    </m:d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3195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34920" y="4533840"/>
            <a:ext cx="69138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663300"/>
                </a:solidFill>
                <a:latin typeface="Arial Black"/>
              </a:rPr>
              <a:t>PMV-PP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705" t="0" r="0" b="10107"/>
          <a:stretch/>
        </p:blipFill>
        <p:spPr>
          <a:xfrm>
            <a:off x="457200" y="1828800"/>
            <a:ext cx="7356600" cy="4648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5400000">
            <a:off x="5472000" y="5424480"/>
            <a:ext cx="360360" cy="179280"/>
          </a:xfrm>
          <a:custGeom>
            <a:avLst/>
            <a:gdLst>
              <a:gd name="textAreaLeft" fmla="*/ 56160 w 360360"/>
              <a:gd name="textAreaRight" fmla="*/ 315360 w 360360"/>
              <a:gd name="textAreaTop" fmla="*/ 44640 h 179280"/>
              <a:gd name="textAreaBottom" fmla="*/ 134640 h 17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99080" y="4876920"/>
            <a:ext cx="115920" cy="115920"/>
          </a:xfrm>
          <a:prstGeom prst="flowChar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4100400" y="5805000"/>
            <a:ext cx="360360" cy="179280"/>
          </a:xfrm>
          <a:custGeom>
            <a:avLst/>
            <a:gdLst>
              <a:gd name="textAreaLeft" fmla="*/ 56160 w 360360"/>
              <a:gd name="textAreaRight" fmla="*/ 315360 w 360360"/>
              <a:gd name="textAreaTop" fmla="*/ 44640 h 179280"/>
              <a:gd name="textAreaBottom" fmla="*/ 134640 h 17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27480" y="5410080"/>
            <a:ext cx="115920" cy="115920"/>
          </a:xfrm>
          <a:prstGeom prst="flowChar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585800" y="1119240"/>
                <a:ext cx="5597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353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MV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7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5004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 u="sng">
                <a:solidFill>
                  <a:srgbClr val="009900"/>
                </a:solidFill>
                <a:uFillTx/>
                <a:latin typeface="Arial Black"/>
              </a:rPr>
              <a:t>Desconforto Térmico Local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Assimetria da temperatura radiante de janelas ou outra superfície vertical fria deve ser inferior a 10º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7920" y="3200400"/>
            <a:ext cx="8637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 u="sng">
                <a:solidFill>
                  <a:srgbClr val="009900"/>
                </a:solidFill>
                <a:uFillTx/>
                <a:latin typeface="Arial Black"/>
              </a:rPr>
              <a:t>Desconforto Térmico Local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572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verno - Vel do ar &lt; 0.15m/s com T entre 20,24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rão - Vel do ar &lt; 0.25m/s com T entre 23,26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083200" y="838080"/>
          <a:ext cx="3984480" cy="588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83200" y="838080"/>
                    <a:ext cx="398448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5004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 u="sng">
                <a:solidFill>
                  <a:srgbClr val="009900"/>
                </a:solidFill>
                <a:uFillTx/>
                <a:latin typeface="Arial Black"/>
              </a:rPr>
              <a:t>Desconforto Térmico Local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iferença de Temperatura do ar a 1.1m e 0.1m acima do chão não deve exceder 3º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133960" y="1380960"/>
            <a:ext cx="34765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5004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 u="sng">
                <a:solidFill>
                  <a:srgbClr val="009900"/>
                </a:solidFill>
                <a:uFillTx/>
                <a:latin typeface="Arial Black"/>
              </a:rPr>
              <a:t>Desconforto Térmico Local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T. do chão deve estar entre 19,26ºC, excepto em pavimentos radiantes podendo atingir os 29º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0575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-2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Black"/>
              </a:rPr>
              <a:t>Aplicaçõ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95" name="dados" descr=""/>
          <p:cNvPicPr/>
          <p:nvPr/>
        </p:nvPicPr>
        <p:blipFill>
          <a:blip r:embed="rId2"/>
          <a:srcRect l="31907" t="0" r="27392" b="76682"/>
          <a:stretch/>
        </p:blipFill>
        <p:spPr>
          <a:xfrm>
            <a:off x="1066680" y="838080"/>
            <a:ext cx="2819520" cy="53352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5486400" y="1219320"/>
            <a:ext cx="1752120" cy="368280"/>
            <a:chOff x="5486400" y="1219320"/>
            <a:chExt cx="1752120" cy="368280"/>
          </a:xfrm>
        </p:grpSpPr>
        <p:sp>
          <p:nvSpPr>
            <p:cNvPr id="197" name=""/>
            <p:cNvSpPr/>
            <p:nvPr/>
          </p:nvSpPr>
          <p:spPr>
            <a:xfrm>
              <a:off x="5486400" y="1295280"/>
              <a:ext cx="228240" cy="228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0960" y="12193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med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86400" y="838080"/>
            <a:ext cx="1752120" cy="368280"/>
            <a:chOff x="5486400" y="838080"/>
            <a:chExt cx="1752120" cy="368280"/>
          </a:xfrm>
        </p:grpSpPr>
        <p:sp>
          <p:nvSpPr>
            <p:cNvPr id="200" name=""/>
            <p:cNvSpPr/>
            <p:nvPr/>
          </p:nvSpPr>
          <p:spPr>
            <a:xfrm>
              <a:off x="5486400" y="914400"/>
              <a:ext cx="228240" cy="228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90960" y="8380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Arial"/>
                </a:rPr>
                <a:t>calcul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066680" y="1447920"/>
            <a:ext cx="1752480" cy="977760"/>
            <a:chOff x="1066680" y="1447920"/>
            <a:chExt cx="1752480" cy="977760"/>
          </a:xfrm>
        </p:grpSpPr>
        <p:sp>
          <p:nvSpPr>
            <p:cNvPr id="203" name=""/>
            <p:cNvSpPr/>
            <p:nvPr/>
          </p:nvSpPr>
          <p:spPr>
            <a:xfrm rot="5400000">
              <a:off x="1866960" y="723600"/>
              <a:ext cx="228240" cy="1676160"/>
            </a:xfrm>
            <a:custGeom>
              <a:avLst/>
              <a:gdLst>
                <a:gd name="textAreaLeft" fmla="*/ 0 w 228240"/>
                <a:gd name="textAreaRight" fmla="*/ 82440 w 228240"/>
                <a:gd name="textAreaTop" fmla="*/ 84240 h 1676160"/>
                <a:gd name="textAreaBottom" fmla="*/ 159192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739"/>
                    <a:pt x="10800" y="3477"/>
                  </a:cubicBezTo>
                  <a:lnTo>
                    <a:pt x="10800" y="7323"/>
                  </a:lnTo>
                  <a:cubicBezTo>
                    <a:pt x="10800" y="9062"/>
                    <a:pt x="16200" y="10800"/>
                    <a:pt x="21600" y="10800"/>
                  </a:cubicBezTo>
                  <a:cubicBezTo>
                    <a:pt x="16200" y="10800"/>
                    <a:pt x="10800" y="12539"/>
                    <a:pt x="10800" y="14277"/>
                  </a:cubicBezTo>
                  <a:lnTo>
                    <a:pt x="10800" y="18123"/>
                  </a:lnTo>
                  <a:cubicBezTo>
                    <a:pt x="10800" y="19862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66680" y="160020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Necessário sa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743200" y="1828800"/>
            <a:ext cx="1523880" cy="688320"/>
            <a:chOff x="2743200" y="1828800"/>
            <a:chExt cx="1523880" cy="688320"/>
          </a:xfrm>
        </p:grpSpPr>
        <p:sp>
          <p:nvSpPr>
            <p:cNvPr id="206" name=""/>
            <p:cNvSpPr/>
            <p:nvPr/>
          </p:nvSpPr>
          <p:spPr>
            <a:xfrm rot="5400000">
              <a:off x="3314520" y="148572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6080 h 914400"/>
                <a:gd name="textAreaBottom" fmla="*/ 8683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739"/>
                    <a:pt x="10800" y="3477"/>
                  </a:cubicBezTo>
                  <a:lnTo>
                    <a:pt x="10800" y="7323"/>
                  </a:lnTo>
                  <a:cubicBezTo>
                    <a:pt x="10800" y="9062"/>
                    <a:pt x="16200" y="10800"/>
                    <a:pt x="21600" y="10800"/>
                  </a:cubicBezTo>
                  <a:cubicBezTo>
                    <a:pt x="16200" y="10800"/>
                    <a:pt x="10800" y="12539"/>
                    <a:pt x="10800" y="14277"/>
                  </a:cubicBezTo>
                  <a:lnTo>
                    <a:pt x="10800" y="18123"/>
                  </a:lnTo>
                  <a:cubicBezTo>
                    <a:pt x="10800" y="19862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43200" y="2057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Que fa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33520" y="266436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 Black"/>
              </a:rPr>
              <a:t>Equipamento de medição ISO 77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transdutor%20veloci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200400"/>
            <a:ext cx="1600200" cy="1587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0880" y="4815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transdutor%20humidade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95480" y="3200400"/>
            <a:ext cx="1752840" cy="1600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124080" y="4800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um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transdutor%20temp%20ar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638680" y="3276720"/>
            <a:ext cx="1890720" cy="1533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943600" y="4800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mp. do 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transdutor%20radiacao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219320" y="5278320"/>
            <a:ext cx="1871640" cy="1427400"/>
          </a:xfrm>
          <a:prstGeom prst="rect">
            <a:avLst/>
          </a:prstGeom>
          <a:ln w="0">
            <a:noFill/>
          </a:ln>
        </p:spPr>
      </p:pic>
      <p:pic>
        <p:nvPicPr>
          <p:cNvPr id="216" name="transdutor%20bolbo%20seco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95840" y="5181480"/>
            <a:ext cx="1490760" cy="1600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33920" y="62625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mp. ope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5410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mp. rad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Política Energética em Edifício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886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ctor doméstico apresenta  um consumo superior ao dos servi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 entanto em 1971 o sector dos serviços representava 26% do total e em 1995 já representava 3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taxa de crescimento do consumo de energia dos serviços é nos anos 90 muito superior às rest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81600" y="762120"/>
            <a:ext cx="5162400" cy="3485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81560" y="4343400"/>
            <a:ext cx="45338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veloce2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6172200" cy="2473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6320" y="1346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Black"/>
              </a:rPr>
              <a:t>Transdutor Velocidade do 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533520" y="6400800"/>
            <a:ext cx="1676160" cy="380880"/>
          </a:xfrm>
          <a:custGeom>
            <a:avLst/>
            <a:gdLst>
              <a:gd name="textAreaLeft" fmla="*/ 24480 w 1676160"/>
              <a:gd name="textAreaRight" fmla="*/ 1651680 w 1676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4987" h="21600">
                <a:moveTo>
                  <a:pt x="0" y="0"/>
                </a:moveTo>
                <a:lnTo>
                  <a:pt x="94987" y="0"/>
                </a:lnTo>
                <a:lnTo>
                  <a:pt x="94987" y="21600"/>
                </a:lnTo>
                <a:lnTo>
                  <a:pt x="0" y="21600"/>
                </a:lnTo>
                <a:close/>
              </a:path>
              <a:path fill="lightenLess" w="94987" h="21600">
                <a:moveTo>
                  <a:pt x="0" y="0"/>
                </a:moveTo>
                <a:lnTo>
                  <a:pt x="94987" y="0"/>
                </a:lnTo>
                <a:lnTo>
                  <a:pt x="93587" y="1400"/>
                </a:lnTo>
                <a:lnTo>
                  <a:pt x="1400" y="1400"/>
                </a:lnTo>
                <a:close/>
              </a:path>
              <a:path fill="darken" w="94987" h="21600">
                <a:moveTo>
                  <a:pt x="94987" y="0"/>
                </a:moveTo>
                <a:lnTo>
                  <a:pt x="94987" y="21600"/>
                </a:lnTo>
                <a:lnTo>
                  <a:pt x="93587" y="20200"/>
                </a:lnTo>
                <a:lnTo>
                  <a:pt x="93587" y="1400"/>
                </a:lnTo>
                <a:close/>
              </a:path>
              <a:path fill="darkenLess" w="94987" h="21600">
                <a:moveTo>
                  <a:pt x="94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587" y="20200"/>
                </a:lnTo>
                <a:close/>
              </a:path>
              <a:path fill="lighten" w="94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3962520"/>
            <a:ext cx="457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ediç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- Velocidade do ar é função do calor perdido pelo corpo. Mede-se a potência fornecida para manter constante a tempera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humida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7462800" cy="2212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6320" y="1346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Black"/>
              </a:rPr>
              <a:t>Transdutor Humid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3429000"/>
            <a:ext cx="4572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ediç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- Elemento arrefecido é activado e a temp. do espelho baix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- Existindo uma película de condensação no espelho é medido a temp. do ponto de orv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3" action="ppaction://hlinksldjump"/>
          </p:cNvPr>
          <p:cNvSpPr/>
          <p:nvPr/>
        </p:nvSpPr>
        <p:spPr>
          <a:xfrm>
            <a:off x="533520" y="6400800"/>
            <a:ext cx="1676160" cy="380880"/>
          </a:xfrm>
          <a:custGeom>
            <a:avLst/>
            <a:gdLst>
              <a:gd name="textAreaLeft" fmla="*/ 24480 w 1676160"/>
              <a:gd name="textAreaRight" fmla="*/ 1651680 w 1676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4987" h="21600">
                <a:moveTo>
                  <a:pt x="0" y="0"/>
                </a:moveTo>
                <a:lnTo>
                  <a:pt x="94987" y="0"/>
                </a:lnTo>
                <a:lnTo>
                  <a:pt x="94987" y="21600"/>
                </a:lnTo>
                <a:lnTo>
                  <a:pt x="0" y="21600"/>
                </a:lnTo>
                <a:close/>
              </a:path>
              <a:path fill="lightenLess" w="94987" h="21600">
                <a:moveTo>
                  <a:pt x="0" y="0"/>
                </a:moveTo>
                <a:lnTo>
                  <a:pt x="94987" y="0"/>
                </a:lnTo>
                <a:lnTo>
                  <a:pt x="93587" y="1400"/>
                </a:lnTo>
                <a:lnTo>
                  <a:pt x="1400" y="1400"/>
                </a:lnTo>
                <a:close/>
              </a:path>
              <a:path fill="darken" w="94987" h="21600">
                <a:moveTo>
                  <a:pt x="94987" y="0"/>
                </a:moveTo>
                <a:lnTo>
                  <a:pt x="94987" y="21600"/>
                </a:lnTo>
                <a:lnTo>
                  <a:pt x="93587" y="20200"/>
                </a:lnTo>
                <a:lnTo>
                  <a:pt x="93587" y="1400"/>
                </a:lnTo>
                <a:close/>
              </a:path>
              <a:path fill="darkenLess" w="94987" h="21600">
                <a:moveTo>
                  <a:pt x="94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587" y="20200"/>
                </a:lnTo>
                <a:close/>
              </a:path>
              <a:path fill="lighten" w="94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empar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7153200" cy="1944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-76320" y="74520"/>
            <a:ext cx="90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Black"/>
              </a:rPr>
              <a:t>Transdutor Temperatura do 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200400"/>
            <a:ext cx="457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ediç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- Termo-elemento protegido da radiação térmica de interferê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533520" y="6400800"/>
            <a:ext cx="1676160" cy="380880"/>
          </a:xfrm>
          <a:custGeom>
            <a:avLst/>
            <a:gdLst>
              <a:gd name="textAreaLeft" fmla="*/ 24480 w 1676160"/>
              <a:gd name="textAreaRight" fmla="*/ 1651680 w 1676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4987" h="21600">
                <a:moveTo>
                  <a:pt x="0" y="0"/>
                </a:moveTo>
                <a:lnTo>
                  <a:pt x="94987" y="0"/>
                </a:lnTo>
                <a:lnTo>
                  <a:pt x="94987" y="21600"/>
                </a:lnTo>
                <a:lnTo>
                  <a:pt x="0" y="21600"/>
                </a:lnTo>
                <a:close/>
              </a:path>
              <a:path fill="lightenLess" w="94987" h="21600">
                <a:moveTo>
                  <a:pt x="0" y="0"/>
                </a:moveTo>
                <a:lnTo>
                  <a:pt x="94987" y="0"/>
                </a:lnTo>
                <a:lnTo>
                  <a:pt x="93587" y="1400"/>
                </a:lnTo>
                <a:lnTo>
                  <a:pt x="1400" y="1400"/>
                </a:lnTo>
                <a:close/>
              </a:path>
              <a:path fill="darken" w="94987" h="21600">
                <a:moveTo>
                  <a:pt x="94987" y="0"/>
                </a:moveTo>
                <a:lnTo>
                  <a:pt x="94987" y="21600"/>
                </a:lnTo>
                <a:lnTo>
                  <a:pt x="93587" y="20200"/>
                </a:lnTo>
                <a:lnTo>
                  <a:pt x="93587" y="1400"/>
                </a:lnTo>
                <a:close/>
              </a:path>
              <a:path fill="darkenLess" w="94987" h="21600">
                <a:moveTo>
                  <a:pt x="94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587" y="20200"/>
                </a:lnTo>
                <a:close/>
              </a:path>
              <a:path fill="lighten" w="94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emprad" descr=""/>
          <p:cNvPicPr/>
          <p:nvPr/>
        </p:nvPicPr>
        <p:blipFill>
          <a:blip r:embed="rId2"/>
          <a:stretch/>
        </p:blipFill>
        <p:spPr>
          <a:xfrm>
            <a:off x="392040" y="914400"/>
            <a:ext cx="570384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13536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0000"/>
                </a:solidFill>
                <a:latin typeface="Arial Black"/>
              </a:rPr>
              <a:t>Transdutor Temperatura Radi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200400"/>
            <a:ext cx="4572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ediç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- Duas faces (A e B) idênticas que medem, de modo independente, a radiação incidente de cada superfí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- Cada face tem 2 elementos que quando à mesma temperatura, o sinal eléctrico emitido, é função da troca de radiação entre o corpo negro e 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3" action="ppaction://hlinksldjump"/>
          </p:cNvPr>
          <p:cNvSpPr/>
          <p:nvPr/>
        </p:nvSpPr>
        <p:spPr>
          <a:xfrm>
            <a:off x="533520" y="6400800"/>
            <a:ext cx="1676160" cy="380880"/>
          </a:xfrm>
          <a:custGeom>
            <a:avLst/>
            <a:gdLst>
              <a:gd name="textAreaLeft" fmla="*/ 24480 w 1676160"/>
              <a:gd name="textAreaRight" fmla="*/ 1651680 w 1676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4987" h="21600">
                <a:moveTo>
                  <a:pt x="0" y="0"/>
                </a:moveTo>
                <a:lnTo>
                  <a:pt x="94987" y="0"/>
                </a:lnTo>
                <a:lnTo>
                  <a:pt x="94987" y="21600"/>
                </a:lnTo>
                <a:lnTo>
                  <a:pt x="0" y="21600"/>
                </a:lnTo>
                <a:close/>
              </a:path>
              <a:path fill="lightenLess" w="94987" h="21600">
                <a:moveTo>
                  <a:pt x="0" y="0"/>
                </a:moveTo>
                <a:lnTo>
                  <a:pt x="94987" y="0"/>
                </a:lnTo>
                <a:lnTo>
                  <a:pt x="93587" y="1400"/>
                </a:lnTo>
                <a:lnTo>
                  <a:pt x="1400" y="1400"/>
                </a:lnTo>
                <a:close/>
              </a:path>
              <a:path fill="darken" w="94987" h="21600">
                <a:moveTo>
                  <a:pt x="94987" y="0"/>
                </a:moveTo>
                <a:lnTo>
                  <a:pt x="94987" y="21600"/>
                </a:lnTo>
                <a:lnTo>
                  <a:pt x="93587" y="20200"/>
                </a:lnTo>
                <a:lnTo>
                  <a:pt x="93587" y="1400"/>
                </a:lnTo>
                <a:close/>
              </a:path>
              <a:path fill="darkenLess" w="94987" h="21600">
                <a:moveTo>
                  <a:pt x="94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587" y="20200"/>
                </a:lnTo>
                <a:close/>
              </a:path>
              <a:path fill="lighten" w="94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-18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Arial Black"/>
              </a:rPr>
              <a:t>Aplicaçõ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83556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 Black"/>
              </a:rPr>
              <a:t>Equipamento de medição ISO 77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data%20logger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800600" cy="2851200"/>
          </a:xfrm>
          <a:prstGeom prst="rect">
            <a:avLst/>
          </a:prstGeom>
          <a:ln w="0">
            <a:noFill/>
          </a:ln>
        </p:spPr>
      </p:pic>
      <p:pic>
        <p:nvPicPr>
          <p:cNvPr id="238" name="dados%20graf" descr=""/>
          <p:cNvPicPr/>
          <p:nvPr/>
        </p:nvPicPr>
        <p:blipFill>
          <a:blip r:embed="rId3"/>
          <a:stretch/>
        </p:blipFill>
        <p:spPr>
          <a:xfrm>
            <a:off x="3276720" y="2979720"/>
            <a:ext cx="4591080" cy="374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33520" y="4921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ware de visualização dos parâmetros me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1447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gista todos os parâmetros necessários ao cál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1060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9900"/>
                </a:solidFill>
                <a:latin typeface="Arial Black"/>
              </a:rPr>
              <a:t>Software ISO 7730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257800" y="4713120"/>
            <a:ext cx="198108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PMV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1600200"/>
            <a:ext cx="210528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Analysis 15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rcRect l="18749" t="8333" r="23438" b="30211"/>
          <a:stretch/>
        </p:blipFill>
        <p:spPr>
          <a:xfrm>
            <a:off x="3505320" y="990720"/>
            <a:ext cx="4038480" cy="3219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4"/>
          </p:cNvPr>
          <p:cNvPicPr/>
          <p:nvPr/>
        </p:nvPicPr>
        <p:blipFill>
          <a:blip r:embed="rId5"/>
          <a:srcRect l="30470" t="10420" r="29687" b="31250"/>
          <a:stretch/>
        </p:blipFill>
        <p:spPr>
          <a:xfrm>
            <a:off x="685800" y="3429000"/>
            <a:ext cx="3733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320" y="7416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ff"/>
                </a:solidFill>
                <a:latin typeface="Arial Black"/>
              </a:rPr>
              <a:t>Software Conforto Térmico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1600200"/>
            <a:ext cx="210492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SERVICELINE</a:t>
            </a:r>
            <a:endParaRPr b="1" lang="en-US" sz="40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927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Black"/>
              </a:rPr>
              <a:t>Fabricante de Equip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>
            <a:hlinkClick r:id="rId2"/>
          </p:cNvPr>
          <p:cNvPicPr/>
          <p:nvPr/>
        </p:nvPicPr>
        <p:blipFill>
          <a:blip r:embed="rId3"/>
          <a:srcRect l="18749" t="16666" r="19532" b="21878"/>
          <a:stretch/>
        </p:blipFill>
        <p:spPr>
          <a:xfrm>
            <a:off x="2514600" y="2209680"/>
            <a:ext cx="54100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52280" y="1600200"/>
            <a:ext cx="210528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CTCA</a:t>
            </a:r>
            <a:endParaRPr b="1" lang="en-US" sz="40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927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Black"/>
              </a:rPr>
              <a:t>Investigação Universitá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320" y="7416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ff"/>
                </a:solidFill>
                <a:latin typeface="Arial Black"/>
              </a:rPr>
              <a:t>Software Conforto Térmico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53" name="" descr="">
            <a:hlinkClick r:id="rId2"/>
          </p:cNvPr>
          <p:cNvPicPr/>
          <p:nvPr/>
        </p:nvPicPr>
        <p:blipFill>
          <a:blip r:embed="rId3"/>
          <a:srcRect l="0" t="0" r="45314" b="46877"/>
          <a:stretch/>
        </p:blipFill>
        <p:spPr>
          <a:xfrm>
            <a:off x="2362320" y="1981080"/>
            <a:ext cx="586728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04760" y="1371600"/>
            <a:ext cx="210492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VisualDOE 3.0</a:t>
            </a:r>
            <a:endParaRPr b="1" lang="en-US" sz="40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927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 Black"/>
              </a:rPr>
              <a:t>www.ele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320" y="7416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ff"/>
                </a:solidFill>
                <a:latin typeface="Arial Black"/>
              </a:rPr>
              <a:t>Software Conforto Térmico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57" name="" descr="">
            <a:hlinkClick r:id="rId2"/>
          </p:cNvPr>
          <p:cNvPicPr/>
          <p:nvPr/>
        </p:nvPicPr>
        <p:blipFill>
          <a:blip r:embed="rId3"/>
          <a:srcRect l="15626" t="11458" r="14844" b="23960"/>
          <a:stretch/>
        </p:blipFill>
        <p:spPr>
          <a:xfrm>
            <a:off x="2286000" y="2212920"/>
            <a:ext cx="60199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Plano Energético Nacional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pt-PT" sz="2400" spc="-1" strike="noStrike">
                <a:solidFill>
                  <a:srgbClr val="663300"/>
                </a:solidFill>
                <a:latin typeface="Arial"/>
              </a:rPr>
              <a:t>O consumo energético do sector dos serviços está desagregado de acordo com o PEN elaborado em 1987 em quatro módu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3300"/>
                </a:solidFill>
                <a:latin typeface="Arial"/>
              </a:rPr>
              <a:t>Calor (água quente, aquecimento e cozin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3300"/>
                </a:solidFill>
                <a:latin typeface="Arial"/>
              </a:rPr>
              <a:t>Refrig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3300"/>
                </a:solidFill>
                <a:latin typeface="Arial"/>
              </a:rPr>
              <a:t>Iluminação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3300"/>
                </a:solidFill>
                <a:latin typeface="Arial"/>
              </a:rPr>
              <a:t>Outra electricidade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procura de energia é função da evolução do emprego, da área do pavimento e da estrutura do consumo energético do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Análise do PEN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gistou-se entre 1979 e 1985 um aumento da área de pavimento ocupada por serviços de 2,6% ao ano, enquanto que para o emprego apenas se registou um aumento de 0,7% ao ano.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19320" y="2670120"/>
            <a:ext cx="66974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Estrutura do Consumo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pt-PT" sz="2400" spc="-1" strike="noStrike">
                <a:solidFill>
                  <a:srgbClr val="663300"/>
                </a:solidFill>
                <a:latin typeface="Arial"/>
              </a:rPr>
              <a:t>Há forte predominância do consumo eléctrico</a:t>
            </a:r>
            <a:r>
              <a:rPr b="1" i="1" lang="pt-PT" sz="2800" spc="-1" strike="noStrike">
                <a:solidFill>
                  <a:srgbClr val="663300"/>
                </a:solidFill>
                <a:latin typeface="Arial"/>
              </a:rPr>
              <a:t> relativamente às restantes formas de ene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47920" y="2895480"/>
            <a:ext cx="6110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Consumo Eléctrico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pt-PT" sz="2400" spc="-1" strike="noStrike">
                <a:solidFill>
                  <a:srgbClr val="663300"/>
                </a:solidFill>
                <a:latin typeface="Arial"/>
              </a:rPr>
              <a:t>Considerando apenas o consumo eléctrico o sector privado é o que detém a maior parc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74214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Consumo na Europ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7620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pt-PT" sz="2400" spc="-1" strike="noStrike">
                <a:solidFill>
                  <a:srgbClr val="663300"/>
                </a:solidFill>
                <a:latin typeface="Arial"/>
              </a:rPr>
              <a:t>Comparando o consumo energético por empregado e a relação área empreg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1981080"/>
          <a:ext cx="7467480" cy="2473560"/>
        </p:xfrm>
        <a:graphic>
          <a:graphicData uri="http://schemas.openxmlformats.org/drawingml/2006/table">
            <a:tbl>
              <a:tblPr/>
              <a:tblGrid>
                <a:gridCol w="2132280"/>
                <a:gridCol w="1068480"/>
                <a:gridCol w="1065960"/>
                <a:gridCol w="1068120"/>
                <a:gridCol w="1064520"/>
                <a:gridCol w="106812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é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U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á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/empregado (m</a:t>
                      </a:r>
                      <a:r>
                        <a:rPr b="0" lang="pt-PT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o Espec. (tep/empreg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47242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endo em conta o forte crescimento do consumo energético ultrapassando todas as perspectivas, conclui-se que a conservação de energia nas novas edificações é de extrema importância. De realçar que apenas pouco mais de 29% dos escritórios que existirão em 2010 já se encontram construí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9118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9900"/>
                </a:solidFill>
                <a:latin typeface="Arial Black"/>
              </a:rPr>
              <a:t>Conforto Térmic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819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pt-PT" sz="2800" spc="-1" strike="noStrike">
                <a:solidFill>
                  <a:srgbClr val="663300"/>
                </a:solidFill>
                <a:latin typeface="Arial"/>
              </a:rPr>
              <a:t>Objectivo dos sistemas de climatização é promover condições térmicas e de qualidade do ar aceitáveis para o ser hum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5:22:01Z</dcterms:created>
  <dc:creator>* </dc:creator>
  <dc:description/>
  <dc:language>en-US</dc:language>
  <cp:lastModifiedBy>prama</cp:lastModifiedBy>
  <dcterms:modified xsi:type="dcterms:W3CDTF">2000-12-22T00:10:21Z</dcterms:modified>
  <cp:revision>54</cp:revision>
  <dc:subject/>
  <dc:title>Apresentação do PowerPoint</dc:title>
</cp:coreProperties>
</file>